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152-B925-4467-928B-B5AE716A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7D3-8033-4A30-B10A-D7541684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863-BC37-4348-BC91-815459C1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216-15C3-449C-BC59-8693B620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B86-933D-43EA-9612-FA60A13C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9AA5-71B4-4624-B422-F36C5336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911-3B1B-41CC-99C2-AD94ABEC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5CA-071C-48D7-A6CE-F24C9043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D60-0E41-4880-BD68-E514EA32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D47-9574-4969-8A4E-3F28F50B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2E2-EC9F-4FFA-8B65-CA1146C7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9D7-9647-4907-805D-D7AE9B45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3C4F-93F8-4F43-82A3-51AD9DE597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7-23T00:59:10Z</dcterms:created>
  <dc:creator/>
  <dc:description/>
  <dc:language>en-US</dc:language>
  <cp:lastModifiedBy> </cp:lastModifiedBy>
  <dcterms:modified xsi:type="dcterms:W3CDTF">2025-07-23T01:00:5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5B8C89A569C4E3B91B3472B2BE10150_13</vt:lpwstr>
  </property>
  <property fmtid="{D5CDD505-2E9C-101B-9397-08002B2CF9AE}" pid="3" name="KSOProductBuildVer">
    <vt:lpwstr>2052-12.1.0.21915</vt:lpwstr>
  </property>
</Properties>
</file>