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779-7263-4908-98F7-6F6A7972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5AC7-8BB5-4FB2-A446-778107C1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116-1FF3-4840-8FF2-8D28C62F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E61-7BAF-4A2F-A381-E4A0E838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184-EF10-4BAC-B39C-6AEF3E05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6BA-9A4A-47C4-8EFD-5180DD41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B4D-79D6-4672-AAE5-9C290EEC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A75-8ABF-403A-9B80-A88D9335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ABA-0E04-48F0-B956-6649F27A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1F9-9CF4-4CF0-8452-C81605D0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83C-FE64-4BEC-96D7-5EFA1B6A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E379-3934-4532-86F5-89ACD4EF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A975-BEF0-43D3-A00C-2C70FB9C55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7-23T00:59:10Z</dcterms:created>
  <dc:creator/>
  <dc:description/>
  <dc:language>en-US</dc:language>
  <cp:lastModifiedBy> </cp:lastModifiedBy>
  <dcterms:modified xsi:type="dcterms:W3CDTF">2025-07-23T01:00:5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5B8C89A569C4E3B91B3472B2BE10150_13</vt:lpwstr>
  </property>
  <property fmtid="{D5CDD505-2E9C-101B-9397-08002B2CF9AE}" pid="3" name="KSOProductBuildVer">
    <vt:lpwstr>2052-12.1.0.21915</vt:lpwstr>
  </property>
</Properties>
</file>